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ErnestoCortazar-Reflexion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202-E4C8-4D0D-8A6E-C01A619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81D-55F6-43E9-A506-4A94EC4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01F-82B2-4A86-BDFD-F48DD33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4BA-52C0-4E31-BFEE-F674E548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2AE-92E6-4C71-8175-B18A8EC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14A-C277-4F7E-BC5C-2C9EF95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C04-D790-4F61-A574-6E54689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148-2258-4F89-8140-53E958C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A7A-9671-40A8-B6AC-48875D7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852-0807-4547-AD59-9E35AC8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58D-48B8-46B1-9EF0-BE02E92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858-2C9B-47ED-8EAB-ED5046F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F30D-E56F-49F6-891C-A08B3A92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rnestoCortazar-Reflexions.wav" TargetMode="External"/><Relationship Id="rId2" Type="http://schemas.microsoft.com/office/2007/relationships/media" Target="file:///tmp/home/.config/libreoffice/4/user/gallery/ErnestoCortazar-Reflexion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audio" Target="../media/ErnestoCortazar-Reflexion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411280" y="3141720"/>
            <a:ext cx="4608720" cy="32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92360" y="404640"/>
            <a:ext cx="60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71e4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>
                        <a:alpha val="50196"/>
                      </a:srgbClr>
                    </a:gs>
                    <a:gs pos="100000">
                      <a:srgbClr val="3366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roadway"/>
              </a:rPr>
              <a:t>Fractales</a:t>
            </a:r>
            <a:endParaRPr b="0" lang="en-US" sz="1800" spc="1" strike="noStrike">
              <a:ln w="12600">
                <a:solidFill>
                  <a:srgbClr val="71e4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>
                      <a:alpha val="50196"/>
                    </a:srgbClr>
                  </a:gs>
                  <a:gs pos="100000">
                    <a:srgbClr val="3366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Broadway"/>
              <a:ea typeface="Broadway"/>
            </a:endParaRPr>
          </a:p>
        </p:txBody>
      </p:sp>
      <p:sp>
        <p:nvSpPr>
          <p:cNvPr id="44" name=""/>
          <p:cNvSpPr/>
          <p:nvPr/>
        </p:nvSpPr>
        <p:spPr>
          <a:xfrm>
            <a:off x="2866680" y="2421000"/>
            <a:ext cx="3539520" cy="368280"/>
          </a:xfrm>
          <a:prstGeom prst="rect">
            <a:avLst/>
          </a:prstGeom>
          <a:noFill/>
          <a:ln w="38160">
            <a:solidFill>
              <a:srgbClr val="61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cbff"/>
                </a:solidFill>
                <a:latin typeface="Trebuchet MS"/>
              </a:rPr>
              <a:t>PRESENTACION AUTO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48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05c"/>
            </a:gs>
            <a:gs pos="50000">
              <a:srgbClr val="fff5c9"/>
            </a:gs>
            <a:gs pos="100000">
              <a:srgbClr val="757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34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26c00"/>
                </a:solidFill>
                <a:latin typeface="Trebuchet MS"/>
              </a:rPr>
              <a:t>La ciencia de los fractales presenta estructuras geométricas de gran complejidad y belleza ligadas a las formas de la naturaleza, al desarrollo de la vida y del Universo.</a:t>
            </a:r>
            <a:r>
              <a:rPr b="1" lang="pt-BR" sz="4400" spc="-1" strike="noStrike">
                <a:solidFill>
                  <a:srgbClr val="926c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93080" cy="5616720"/>
          </a:xfrm>
          <a:prstGeom prst="rect">
            <a:avLst/>
          </a:prstGeom>
          <a:noFill/>
          <a:ln w="63360">
            <a:solidFill>
              <a:srgbClr val="64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2aada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89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fcbff"/>
                </a:solidFill>
                <a:latin typeface="Trebuchet MS"/>
              </a:rPr>
              <a:t>Cada universo fractal, generado a partir de una única ecuaci</a:t>
            </a:r>
            <a:r>
              <a:rPr b="0" lang="en-US" sz="3200" spc="-1" strike="noStrike">
                <a:solidFill>
                  <a:srgbClr val="7fcbff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7fcbff"/>
                </a:solidFill>
                <a:latin typeface="Trebuchet MS"/>
              </a:rPr>
              <a:t>n matemática, se reproduce con semejanza en todo.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25360"/>
            <a:ext cx="7991280" cy="4680000"/>
          </a:xfrm>
          <a:prstGeom prst="rect">
            <a:avLst/>
          </a:prstGeom>
          <a:noFill/>
          <a:ln w="63360">
            <a:solidFill>
              <a:srgbClr val="61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5475"/>
            </a:gs>
            <a:gs pos="50000">
              <a:srgbClr val="dbb7ff"/>
            </a:gs>
            <a:gs pos="100000">
              <a:srgbClr val="645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69134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...y... sin explicaci</a:t>
            </a:r>
            <a:r>
              <a:rPr b="0" lang="en-US" sz="3200" spc="-1" strike="noStrike">
                <a:solidFill>
                  <a:srgbClr val="800080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n conocida, también se inician diferencias en cada escala, cre</a:t>
            </a:r>
            <a:r>
              <a:rPr b="0" lang="en-US" sz="3200" spc="-1" strike="noStrike">
                <a:solidFill>
                  <a:srgbClr val="800080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ndose nuevas f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197000"/>
            <a:ext cx="7848360" cy="4392720"/>
          </a:xfrm>
          <a:prstGeom prst="rect">
            <a:avLst/>
          </a:prstGeom>
          <a:noFill/>
          <a:ln w="63360">
            <a:solidFill>
              <a:srgbClr val="68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333360"/>
            <a:ext cx="9648720" cy="743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c69"/>
            </a:gs>
            <a:gs pos="50000">
              <a:srgbClr val="ffa7e4"/>
            </a:gs>
            <a:gs pos="100000">
              <a:srgbClr val="754c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Vivimos en un mundo en el que la ciencia nos revela nuevos misterios día a d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a, y para cada descubrimiento se observan nuevos e inesperados horizontes, generando también m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s y m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s interrog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907920"/>
            <a:ext cx="8064360" cy="4969080"/>
          </a:xfrm>
          <a:prstGeom prst="rect">
            <a:avLst/>
          </a:prstGeom>
          <a:noFill/>
          <a:ln w="63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5e"/>
            </a:gs>
            <a:gs pos="50000">
              <a:srgbClr val="6600cc"/>
            </a:gs>
            <a:gs pos="100000">
              <a:srgbClr val="2f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947"/>
            </a:gs>
            <a:gs pos="50000">
              <a:srgbClr val="ffc39b"/>
            </a:gs>
            <a:gs pos="100000">
              <a:srgbClr val="7559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141264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Los fractales dieron origen a un nuevo ramo de las matemáticas, muchas veces designado como </a:t>
            </a:r>
            <a:br>
              <a:rPr sz="3200"/>
            </a:br>
            <a:r>
              <a:rPr b="0" i="1" lang="pt-BR" sz="3200" spc="-1" strike="noStrike">
                <a:solidFill>
                  <a:srgbClr val="663300"/>
                </a:solidFill>
                <a:latin typeface="Trebuchet MS"/>
              </a:rPr>
              <a:t>Geometr</a:t>
            </a:r>
            <a:r>
              <a:rPr b="0" i="1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i="1" lang="pt-BR" sz="3200" spc="-1" strike="noStrike">
                <a:solidFill>
                  <a:srgbClr val="663300"/>
                </a:solidFill>
                <a:latin typeface="Trebuchet MS"/>
              </a:rPr>
              <a:t>a de la Naturaleza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.</a:t>
            </a:r>
            <a:r>
              <a:rPr b="0" lang="pt-BR" sz="36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Este nuevo tipo de geometr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 se aplica en la astronom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, la meteorolog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, la econom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 y el cine, entre otros campos</a:t>
            </a:r>
            <a:r>
              <a:rPr b="0" lang="pt-BR" sz="3200" spc="-1" strike="noStrike">
                <a:solidFill>
                  <a:srgbClr val="003366"/>
                </a:solidFill>
                <a:latin typeface="Trebuchet MS"/>
              </a:rPr>
              <a:t>.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052640"/>
            <a:ext cx="7921440" cy="4897440"/>
          </a:xfrm>
          <a:prstGeom prst="rect">
            <a:avLst/>
          </a:prstGeom>
          <a:noFill/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877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685b"/>
            </a:gs>
            <a:gs pos="50000">
              <a:srgbClr val="abe3c7"/>
            </a:gs>
            <a:gs pos="100000">
              <a:srgbClr val="4e6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97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800"/>
                </a:solidFill>
                <a:latin typeface="Trebuchet MS"/>
              </a:rPr>
              <a:t>Las formas extrañas y caóticas de los fractales describen fen</a:t>
            </a:r>
            <a:r>
              <a:rPr b="0" lang="en-US" sz="3200" spc="-1" strike="noStrike">
                <a:solidFill>
                  <a:srgbClr val="006800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006800"/>
                </a:solidFill>
                <a:latin typeface="Trebuchet MS"/>
              </a:rPr>
              <a:t>menos naturales como los sismos, el desarrollo de los árboles, la forma de algunas raíces, la línea de la costa marítima, las nubes..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907920"/>
            <a:ext cx="7272360" cy="4826160"/>
          </a:xfrm>
          <a:prstGeom prst="rect">
            <a:avLst/>
          </a:prstGeom>
          <a:noFill/>
          <a:ln w="63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1200"/>
            </a:gs>
            <a:gs pos="50000">
              <a:srgbClr val="a62800"/>
            </a:gs>
            <a:gs pos="100000">
              <a:srgbClr val="4c1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1773360"/>
            <a:ext cx="720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¡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Me emocioné cuando v</a:t>
            </a: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í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 un fractal por vez primera! Quer</a:t>
            </a: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í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a saber cómo fue hecho, de dónde vino y cómo entender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65000"/>
            <a:ext cx="8424720" cy="5472360"/>
          </a:xfrm>
          <a:prstGeom prst="rect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0"/>
            <a:ext cx="6218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575"/>
            </a:gs>
            <a:gs pos="50000">
              <a:srgbClr val="7fddff"/>
            </a:gs>
            <a:gs pos="100000">
              <a:srgbClr val="3a6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640" y="2060280"/>
            <a:ext cx="6266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daa"/>
                </a:solidFill>
                <a:latin typeface="Trebuchet MS"/>
              </a:rPr>
              <a:t>Hoy podemos observar la belleza de las imágenes y su relación... la creciente complejidad de las matemáticas... el caos... (la ciencia cuenta hoy con una Teoría del Caos).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052640"/>
            <a:ext cx="7417080" cy="4895640"/>
          </a:xfrm>
          <a:prstGeom prst="rect">
            <a:avLst/>
          </a:prstGeom>
          <a:noFill/>
          <a:ln w="63360">
            <a:solidFill>
              <a:srgbClr val="006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a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60"/>
            </a:gs>
            <a:gs pos="50000">
              <a:srgbClr val="ffffd1"/>
            </a:gs>
            <a:gs pos="100000">
              <a:srgbClr val="7575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050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Las imágenes abstractas de los fractales tienen el carácter de </a:t>
            </a:r>
            <a:r>
              <a:rPr b="0" i="1" lang="pt-BR" sz="3600" spc="-1" strike="noStrike">
                <a:solidFill>
                  <a:srgbClr val="a62800"/>
                </a:solidFill>
                <a:latin typeface="Trebuchet MS"/>
              </a:rPr>
              <a:t>omniprescencia</a:t>
            </a: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, debido a que cada fragmento posee las características del todo,  infinitamente multiplicadas.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Es decir: cada partícula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posee dentro de sí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la totalidad del Unive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549360"/>
            <a:ext cx="7200720" cy="5616360"/>
          </a:xfrm>
          <a:prstGeom prst="rect">
            <a:avLst/>
          </a:prstGeom>
          <a:noFill/>
          <a:ln w="63360">
            <a:solidFill>
              <a:srgbClr val="84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165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5e"/>
            </a:gs>
            <a:gs pos="50000">
              <a:srgbClr val="00ffcc"/>
            </a:gs>
            <a:gs pos="100000">
              <a:srgbClr val="00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04640"/>
            <a:ext cx="39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49360"/>
            <a:ext cx="37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3d14"/>
            </a:gs>
            <a:gs pos="50000">
              <a:srgbClr val="2c862c"/>
            </a:gs>
            <a:gs pos="100000">
              <a:srgbClr val="143d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8690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d3a"/>
            </a:gs>
            <a:gs pos="50000">
              <a:srgbClr val="0066cc"/>
            </a:gs>
            <a:gs pos="100000">
              <a:srgbClr val="001d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333360"/>
            <a:ext cx="63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b1cb"/>
            </a:gs>
            <a:gs pos="50000">
              <a:srgbClr val="9e2600"/>
            </a:gs>
            <a:gs pos="100000">
              <a:srgbClr val="e5b1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2602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b1cb"/>
                </a:solidFill>
                <a:latin typeface="Trebuchet MS"/>
              </a:rPr>
              <a:t>¿</a:t>
            </a:r>
            <a:r>
              <a:rPr b="0" lang="pt-BR" sz="4400" spc="-1" strike="noStrike">
                <a:solidFill>
                  <a:srgbClr val="e5b1cb"/>
                </a:solidFill>
                <a:latin typeface="Trebuchet MS"/>
              </a:rPr>
              <a:t>Qu</a:t>
            </a:r>
            <a:r>
              <a:rPr b="0" lang="en-US" sz="4400" spc="-1" strike="noStrike">
                <a:solidFill>
                  <a:srgbClr val="e5b1cb"/>
                </a:solidFill>
                <a:latin typeface="Trebuchet MS"/>
              </a:rPr>
              <a:t>é</a:t>
            </a:r>
            <a:r>
              <a:rPr b="0" lang="pt-BR" sz="4400" spc="-1" strike="noStrike">
                <a:solidFill>
                  <a:srgbClr val="e5b1cb"/>
                </a:solidFill>
                <a:latin typeface="Trebuchet MS"/>
              </a:rPr>
              <a:t> son los fract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cff"/>
            </a:gs>
            <a:gs pos="50000">
              <a:srgbClr val="0066cc"/>
            </a:gs>
            <a:gs pos="100000">
              <a:srgbClr val="c5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6f00"/>
            </a:gs>
            <a:gs pos="50000">
              <a:srgbClr val="ffefad"/>
            </a:gs>
            <a:gs pos="100000">
              <a:srgbClr val="966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b41"/>
            </a:gs>
            <a:gs pos="50000">
              <a:srgbClr val="ffea8f"/>
            </a:gs>
            <a:gs pos="100000">
              <a:srgbClr val="756b4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6000" y="1484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333360"/>
            <a:ext cx="4788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rebuchet MS"/>
              </a:rPr>
              <a:t>¡</a:t>
            </a: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Sé humil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Reverencia la natura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y tu ento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1512720" cy="165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3141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4640"/>
            <a:ext cx="8424720" cy="6120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a6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3280" y="3141720"/>
            <a:ext cx="68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a62800"/>
                  </a:solidFill>
                  <a:miter/>
                </a:ln>
                <a:solidFill>
                  <a:srgbClr val="a62800"/>
                </a:solidFill>
                <a:latin typeface="Trebuchet MS"/>
              </a:rPr>
              <a:t>¡Te deseo un día extraordinario!</a:t>
            </a:r>
            <a:endParaRPr b="0" lang="en-US" sz="1800" spc="1" strike="noStrike">
              <a:ln w="3240">
                <a:solidFill>
                  <a:srgbClr val="a62800"/>
                </a:solidFill>
                <a:miter/>
              </a:ln>
              <a:solidFill>
                <a:srgbClr val="a62800"/>
              </a:solidFill>
              <a:latin typeface="Trebuchet MS"/>
              <a:ea typeface="Trebuchet M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394d"/>
            </a:gs>
            <a:gs pos="50000">
              <a:srgbClr val="d47ca8"/>
            </a:gs>
            <a:gs pos="100000">
              <a:srgbClr val="6139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200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c2e5d"/>
                </a:solidFill>
                <a:latin typeface="Trebuchet MS"/>
              </a:rPr>
              <a:t>Los fractales son formas geométricas que se caracterizan por repetir un determinado patr</a:t>
            </a:r>
            <a:r>
              <a:rPr b="0" lang="en-US" sz="3600" spc="-1" strike="noStrike">
                <a:solidFill>
                  <a:srgbClr val="8c2e5d"/>
                </a:solidFill>
                <a:latin typeface="Trebuchet MS"/>
              </a:rPr>
              <a:t>ó</a:t>
            </a:r>
            <a:r>
              <a:rPr b="0" lang="pt-BR" sz="3600" spc="-1" strike="noStrike">
                <a:solidFill>
                  <a:srgbClr val="8c2e5d"/>
                </a:solidFill>
                <a:latin typeface="Trebuchet MS"/>
              </a:rPr>
              <a:t>n, con ligeras y constantes vari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993080" cy="4608360"/>
          </a:xfrm>
          <a:prstGeom prst="rect">
            <a:avLst/>
          </a:prstGeom>
          <a:noFill/>
          <a:ln w="63360">
            <a:solidFill>
              <a:srgbClr val="692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31680"/>
            <a:ext cx="676944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6658"/>
            </a:gs>
            <a:gs pos="50000">
              <a:srgbClr val="9fdfbf"/>
            </a:gs>
            <a:gs pos="100000">
              <a:srgbClr val="496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274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6744d"/>
                </a:solidFill>
                <a:latin typeface="Trebuchet MS"/>
              </a:rPr>
              <a:t>Los fractales pueden ser identificados en la naturaleza. Por ejemplo, en el brócoli, en los </a:t>
            </a:r>
            <a:r>
              <a:rPr b="0" lang="en-US" sz="3200" spc="-1" strike="noStrike">
                <a:solidFill>
                  <a:srgbClr val="26744d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26744d"/>
                </a:solidFill>
                <a:latin typeface="Trebuchet MS"/>
              </a:rPr>
              <a:t>rboles, los mariscos, y en cualquier estructura cuyas ramificaciones sean variaciones de una misma forma bá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979560"/>
            <a:ext cx="7920000" cy="4897440"/>
          </a:xfrm>
          <a:prstGeom prst="rect">
            <a:avLst/>
          </a:prstGeom>
          <a:noFill/>
          <a:ln w="63360">
            <a:solidFill>
              <a:srgbClr val="216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5900"/>
            </a:gs>
            <a:gs pos="50000">
              <a:srgbClr val="8fc200"/>
            </a:gs>
            <a:gs pos="100000">
              <a:srgbClr val="415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20000" y="907920"/>
            <a:ext cx="2124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20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71e4ff"/>
                </a:solidFill>
                <a:latin typeface="Trebuchet MS"/>
              </a:rPr>
              <a:t>Cuando los fractales son vistos a través de una lente de aumento, es posible percibir la similitud entre sus diferentes partes, en sus diferentes escal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20640"/>
            <a:ext cx="8280360" cy="5688000"/>
          </a:xfrm>
          <a:prstGeom prst="rect">
            <a:avLst/>
          </a:prstGeom>
          <a:noFill/>
          <a:ln w="63360">
            <a:solidFill>
              <a:srgbClr val="49d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575"/>
            </a:gs>
            <a:gs pos="50000">
              <a:srgbClr val="5197ff"/>
            </a:gs>
            <a:gs pos="100000">
              <a:srgbClr val="254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1:42:27Z</dcterms:created>
  <dc:creator>DAURA</dc:creator>
  <dc:description/>
  <dc:language>en-US</dc:language>
  <cp:lastModifiedBy>ETXEA</cp:lastModifiedBy>
  <dcterms:modified xsi:type="dcterms:W3CDTF">2009-12-09T16:54:09Z</dcterms:modified>
  <cp:revision>19</cp:revision>
  <dc:subject/>
  <dc:title>Slide 1</dc:title>
</cp:coreProperties>
</file>